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6C7-94CB-45D9-9EBD-4AB72805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E1B-7102-43E1-873F-77BE2833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A3CF3-B947-4987-9647-6C88EC1D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7FEC7-65A6-4C93-A531-038F8D88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874EB-9430-4376-A1E8-617E23D8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FD2FC-B7E8-46B2-8292-5209627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E4D4E-2B62-4C68-A522-2EA0860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897B9-B1A2-4E12-936D-BCBA0FB8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00D5E-27C4-4474-B726-D0E844E1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ACDEC-2C60-43C2-AE21-9ECE09E6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29A1B-D462-42CF-9DBB-14F29229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626AC-5049-4D4D-83F8-41EF4F00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EFC-E7AA-4EBF-AA28-64BE60D2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7B84C-C16A-459D-9589-B4BA8922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DA238-8F3B-4C0E-AEDE-48553E1D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E8B4E-F301-4CD0-8C37-00EA43EB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C4DD8-7016-4B87-BF26-4667B86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530CE-92E7-481E-AA87-8FE538CC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C34B1-DFB2-4F5C-BED2-B053DD75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4FFF9-A0B1-4FDC-B88F-36703FF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FC826-6DF1-4186-A48E-F5D1047A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BB49B-7CF7-4A7A-8654-68F9507A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CA06A-ED7A-47D8-B8FF-D4D3E88D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48D-AFF9-415C-90F6-D7E0FC17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317C4-228E-464D-8266-C46BD32D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95BE0-8596-45E0-87DE-52A3C769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07C9A-442B-4104-9034-B2281F15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B361C-B126-4248-9E50-21208E5E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63B6A-37E2-4101-BDD6-24708EEE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684BE-9074-4A33-9DC7-D9938803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8C51D-3AB2-450A-BE61-512F2A5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4EB37-5CD5-4CFD-9859-76DCA7B9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5D55A-9B0E-4BD2-BD09-EE376F2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A26A5-051E-4A37-8F6F-C2556B71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501B-AC52-48E0-995B-F389B05D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111AA-17B4-4E11-8750-92780C7C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4765E-C399-478C-942A-4ADCF978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3E727-C8C6-4AD5-9C68-378EDC13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9EF7A-C38D-4933-9AF8-3C2D4FA3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E17AD-3102-440B-8B3B-4D1C32F1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5F2F7-24D2-4C1E-A2EF-D96B4D2D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06F85-19C5-4175-8900-40CC78B9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256C3-9EE1-4AA5-BB07-9E2A7651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54430-8F66-43D7-8FD9-0A772B7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08CF9-1DFC-44AC-AE12-A24C984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2227-DD96-46A4-AF2B-E69B1EE1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F5B80-2F78-44D2-9702-FD435C2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C35FB-D119-4FF9-BAB1-7F7814BB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614D1-0742-46C4-9AA9-0952F174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C3A1D-3BDC-43A9-BC1E-E8452933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BE093-AA81-4E97-8749-D0D25DD1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A83E9-A4ED-4601-9FF8-221F679C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97CC2-2E44-4485-BCC9-DAEA6967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8293B-0E35-4A22-891C-2E15A3D9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78A62-8E31-4A64-B560-1BC910B6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554FA-D17F-42C2-B2AA-01177FCF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7D5F-62C8-4E25-AA92-99105E3B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8BFAF-CCB3-43CD-91AC-8FD840F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57260-F858-42D7-A92E-7B74C773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44DC1-CA5F-43B7-8A1C-35270220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0B34A-05E2-4400-BA7D-5C584F0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5B590-7C71-4BC3-9710-EF885169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B4A59-799C-4259-B07B-A790826D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D7BDC-2BCF-4FBF-A612-84A58C40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993ED-0868-4864-A327-A663236C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6D6D1-FA03-45F2-A7CE-208561DC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26F1B-FB48-4CA9-8B82-3DBE2794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5B3E-9F12-4185-886B-D0929C31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DE1C6-2E2C-4E72-B7C9-535F98F3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98BA2-FDA4-431E-BFFF-3CCB6CED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8E28A-1257-4186-9D07-898D0AF9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7E1C4-E295-43A3-A0F4-9FA2F1CD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B3163-E7B0-4D69-B525-0A5E08BA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1D018-B0D2-4DC9-B074-5D8C9A5D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FF2C2-D13B-4359-821F-BBD5363E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FA131-F6F1-4FEC-A261-EE385142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21837-3131-4FE6-A852-145AA262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5C965-D2A4-441B-AC83-9EC37499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3FB4-E2B3-4C37-929A-ABBE7247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0462F-B628-4EB5-B11D-E13461A5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33C52-6754-4279-A543-A606471A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033A5-CA0B-4F17-ADD9-2E661630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FEAF5-6762-4C99-8EEF-043F9C50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87C88-908B-4573-B6C6-F6C31057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2A0D3-C023-42C7-B318-3E2E1BAF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0EFE5-CE18-4568-A5B2-15C51E19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302E0-5F2E-4A30-B652-79CD81B6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478A5-FAD1-46D8-A8CF-672D4DF6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C5BC7-C9A7-4039-B673-1F841F7F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0451-F415-4354-9876-213D0FB1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82D78-3B37-4AC7-B25F-386A18EE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70C3D-7A26-4377-86D9-FE9C8F58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2DD72-CEDA-4D03-BF37-5F08CD00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01C60-8D8D-4D0A-ADF5-1C7AD63C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4229A-23F6-480B-9D86-3A0AF665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5DEF4-002E-4248-9CF9-A491823D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8A1E8-ACD6-499A-9739-644C8ACE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8D9D3-15B9-4D0B-9AB1-52F599E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BCA31-3F7F-4226-8668-5FCDF67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ED3E7-E7E4-4CD2-8479-72B8DBD0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292A-5443-4F66-8E4B-4C4BF775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677DA-6B41-481C-93CC-9335F399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B791B-2495-4FAB-B9C3-8C9A0C30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85676-FB2E-4D63-BA13-8811F121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71D37-DE80-42A0-B002-08E86652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219D3-54CA-455E-8DE1-8B669916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CDD18-4B99-4FB8-8CFD-ACF83364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FEBC9-3F3A-4C09-9061-3DE31B88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D38F9-695D-4AFE-B6AF-503287C1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4FADF-5DC5-423D-A912-899F5C5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D0998-AACD-4C47-89D1-0033724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597-C6C9-4321-B8AF-DE1F1933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20FB-4233-4611-A654-25ECDEA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73C2D-B77C-49CF-8C6F-74E1607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D5A54-01F3-49DA-88F5-3A49C37A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55FCF-12ED-4A10-AC94-37396C69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B3FE6-C32B-4C7D-BDA1-5128C0EE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57047-DAFB-4796-B844-14416AB1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1FCD6-90DB-461F-971D-2BEC8C96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470FC-088C-411A-8EDE-70092A11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B1052-EF24-428A-BC71-C2C9FF64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9782F-0E22-4B2F-8F7D-C8FA5E23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D5F25-7FA5-45A9-9C17-E7EBDDEF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2EE0-261B-47DA-BE85-0D57646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E6D4A-D9BC-4FFC-953A-CF697866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C563C-4435-4791-A64D-0779188A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9D432-1EBB-48B2-BEA9-5F854026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92145-052C-491E-8D5C-7669EE3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321CA-D715-4ACF-9B20-7744E33C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078F9-84AF-4EA4-A808-D7723EC4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569651-7840-4A5A-85D4-1713B225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96478-4843-40C8-AB50-E4A7A70A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9E2BC-2308-486E-AC15-9D7AFC86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DBEE3-FE6B-4B61-B9BE-53B83827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0B1-1754-4ED3-9C34-67CE163A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26A38-698D-4BCB-ACAA-3790F3AB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FA229-8133-45E1-9119-5ABC62B5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96116-182F-48A3-B0A8-6AC62893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681D1-4CE5-4207-B993-1058E52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23687-05B6-49F8-8A8C-9825B17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A6265C-C33E-4DD9-B0E8-12BC7640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45D4F-DFEF-4838-871B-9A62EF24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5E9708-F714-451B-A9C7-7D5750F2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598E5-6379-4E51-8B6F-0C8A8138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69F94-5A14-4287-A56D-6FE80AA1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C05C-6C6D-40BF-A838-BA78AD9C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E579E-9D4F-4D1F-9A85-BB90060A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B9E06-73F1-4DE0-B5F4-1A427ADA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C8CC8-270E-4AE1-825C-6EC1428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C7ECD-9FFA-4935-940F-C0E13856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9FD34-76E1-4A31-9AB1-EFF63FBA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63C94-4B4E-4B9F-9BD7-1E1E3BA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DA413B-418B-4B58-A142-8CA15648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2DCA49-875C-45DD-83AC-B49D2765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35488-CB9C-4923-80E2-296BE53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79002-2D5E-4A52-BAC0-132702E3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A26F-5B2A-4464-91D2-E088B5FC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C4968-5686-4060-905F-88AAD013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7DC5E-1E5D-4011-9CDC-9F103E2C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30FBE-E4A2-41F0-86A1-A416A24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227E53-FEC2-4723-9165-274472DD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759525-F99F-4298-A26C-B057E48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4C18C-DEFB-41E5-AC9C-F567870E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9989D-1FE4-4BD0-B414-B6530E8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1256C-C71B-4A14-850E-BE4AF4F1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42A2D-E7A6-4CA8-B4E5-460A0430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3B959E-9779-4A58-BEB7-F7260E8E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292E-A642-4937-8DB0-8790AA41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9CD084-E34D-49AC-AB6B-2496F98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075F3-DAF0-494F-8CDC-6583F741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3F4F40-2B8B-4F2D-B280-10626DD0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013E50-5203-4332-84D7-EFD2D97C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41DF0-5927-47CF-97B4-52253855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8DA8A5-7B0B-4C1A-B35E-C132CB83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9007D3-9E78-4882-AD98-C928EE7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78835F-1021-4E34-AAE4-0E0562A5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DD32B8-455D-4B27-A083-F8EFB85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39234F-C530-48FA-A965-37A8903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CC68-3E8C-42E0-BBE5-A21A02D5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42A2E-413D-4704-9AF8-41AF2FF1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1FE83-AFD2-4AFF-B5F1-2B7EC798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A7C02E-4E19-4378-BB12-9A3DB92D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429BBB-4391-4FEE-9659-7C8C3918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1D4127-B0A7-4E75-B536-372367C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AE891-9E3B-4454-BA54-A9C6014F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BE3191-EF98-4956-8E87-45B3D27B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5681E1-4C83-4172-A41F-6288AABA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48055-8220-44D5-97EE-D948B24D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451424-4723-48AF-9721-9F15AA68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04CEF-5312-40A7-A3D7-2B564683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7CDD79-67D7-4023-85C4-8366549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313CF9-4DD1-42FE-890F-602B4F60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067FA-D425-4CC5-AA8D-A1D38F1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61D817-5052-43B1-9452-6AC3EF8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AF193D-D133-4D57-8CC5-5611EA9A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436A50-6EE0-47E9-AECE-C70D00E8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3CB366-F010-4629-8951-B935634D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87CD3-82F9-479B-992D-F7BA48AC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0E6324-82A0-49E7-967B-DB768A78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756E22-8C8E-46EE-9D3E-CB97337A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910B5-C98E-4D00-9461-97C70FD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ACD91-511B-4953-A178-9DCBD727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C738E3-1E57-43EE-B2E0-7358D34E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D0D4D9-CD70-4910-93D3-FDD9442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1D8894-CBC2-4335-92D1-42B6CBEE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CA8E94-1CBC-4EAB-A154-D7C197A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C7D5CE-61B2-4E68-B9C7-32E273FA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899905-CDE9-4048-B1E6-15B3AB4B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CFBBFB-9532-4DC6-B478-0F644C35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0FE4F2-5BFA-4B6F-AA35-FDAD32F0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45171E-EDB8-43E9-87F1-DBF17AAB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9620-0FB8-4FFD-8C68-4D1D0BCB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383AF3-C33F-487F-BF77-7D7E0DEE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AC3E4D-3210-4C67-A040-CA042D0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8746F2-2A1D-4126-9A3F-5AA197E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BCABC1-42AF-4E87-B391-C66AA01E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64CCBC-F5A1-4046-B69F-72693D5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545B21-A839-4697-A626-76F0E4C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5E8F5C-4492-4BEE-A530-6E35DAF0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8C7237-6D79-4654-9121-061CB0CB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16C84B-A55B-4C60-9686-75D946F7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F64B66-1ABA-4030-ADC0-3F3BFEE0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5AC-DDD4-401F-BF0C-3C62ECC4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32BB-F456-46E2-AA51-DA80BC1B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8C0C0B-60F6-438F-9489-DC628025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0129FF-B08E-41F8-BAE2-3C21B445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62281F-4DFA-4993-9EC5-75822553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B32DB3-3224-4B85-8B0D-64911A70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2D3161-8DDF-4F46-A09C-E4AF37EA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0D11B3-8201-4BAA-9005-911959B4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5E7C54-B65E-4912-ACCE-1D9E5753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CB7EF1-6E54-43F3-A371-EEC4FF6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8DB80E-D781-48F0-B431-1F47D49B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5B2DEA-3DC2-4A21-B3B8-D8AA5D1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51AF-B745-496C-B394-C612834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5B9BD5-6C8A-4DE7-8579-B53AFD5E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07D2D-F747-4BFC-AFCD-66DDF49F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26E945-5ED6-43CE-AF92-14B66D00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419554-99D5-4B0A-9D48-6B8C9620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B5B4CE-3F8C-48AE-BCE8-AFA4A592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72F313-5CD3-4E0D-B1EB-49560D87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B65034-36D1-4007-AB1C-0C805A6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EF964E-C660-461C-A424-A8E340BD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4496A6-90D8-4203-B0B5-EAA9C95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CBD845-1B6A-4EB1-A463-24F3FFA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5EBE-83CD-47B6-B54A-48F41F0C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B7D27C-E297-4AFE-A164-990A7BF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67CD4F-CDFB-41A8-9B1A-C771190A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386B18-B6E3-4EBB-963D-35581F3C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2E57D4-B050-415B-859D-C6F5928F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D3D9C4-6D51-4D04-B673-8113D82E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19E61-D3B0-447A-9A53-39E8A5EF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B06594-B834-42EB-8A9E-4073AF32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D73162-2BBC-465C-B78A-FB28C94A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C422D9-6F26-451D-8A83-679EB100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5B144B-1C62-434F-A7FE-4AAA7B5C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1BA1-7EE3-4261-AF9D-C5CFE8FE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A252A7-0F53-47DD-AE3E-F21A09A3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FDFFC5-8EE1-40F7-9CE7-A693978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DF9F43-1C8E-47AC-8A2C-0748AFAC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2451D3-0FCF-4905-9DE8-EDCDEBE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1FB7A7-D083-43D6-B1DD-F884C410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5DDFC5-2DD6-428C-9557-490CBA3B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64DD8E-5E7F-44A7-9A18-84C3BDC7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B733FB-1378-402F-B8FA-D4F7036E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3FD916-9EA4-4104-99C0-DE6BC2D8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CB704D-C1F0-47C5-A519-8C3408B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4DDD-EAC3-4DA8-88E8-C97E49C1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132F0F-682A-4626-B251-CF2E9F72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47167A-34B4-4AE2-8F38-897F9E88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BE5DE1-C22C-469B-BA88-CE17803F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FDA3FD-7E0F-4DFD-A61F-B892F8D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B84803-6F33-4AB7-8F31-BD601EE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D7CCAD-C61A-42D7-9DC8-38876255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343839-4CBD-41BC-9BD3-F79F3B77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E10EAF-508E-4876-93BF-80503235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EEF675-446A-4DF1-8883-DAADBB4C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E66A78-154A-4046-AC81-2D49D802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3FD2-231B-4AD4-AE20-A8C1278E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215631-9C71-458D-8D86-344FAA42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75770A-488D-4C81-8EA6-17FFABC1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DAB5DD-2A7D-4EE8-9958-2C2B54F7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E90434-10BA-4EB5-AA72-7DEE2DDD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39B934-63B9-47FC-926F-79A0ED16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15B903-9C82-4E79-A889-788E4C4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2C3EE3-8E36-488E-938B-A828254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5DA048-DD18-47C2-95C0-F21B438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905EA5-01B2-4CB6-A35C-F6F730F8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A0BF72-7D9B-40E7-A56D-E1493001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2151-31AE-40C4-BC26-D354B388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33635C-884F-4D52-B971-176AE147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04813F-7B4C-40ED-B31A-3D7EE87A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8C969A-F010-4459-BBA5-46C23662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322DDB-9DE1-46C4-A87D-04C07BDB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E1F571-EB90-4EF1-9755-A04FA89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5FB0CA-6A67-4959-BC5D-B07A8449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E38A9E-302C-4BE3-885C-2B5177D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6429F5-AFA4-4A6E-A345-2F7D730D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CB3943-9CD3-45F9-8D80-4DC4F58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4BA7D6-DE61-4E75-8106-AA4E932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7E08-EA67-43C8-893F-D3EB2DF2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E67408-F285-42FA-A44B-2FD7594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B4DE97-A390-497A-99FA-9D01FBB6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313ABE-492B-42B5-8EE7-C4192E5F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AD27-1395-4131-B8FF-9E9B8592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9AD3-A4FA-49A6-8C17-D2501EC6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58B-584E-4BB9-877F-4E6204FB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818D1-490F-4684-9812-92257022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3FA3-FA06-428E-BC31-ED9828F9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6EAA-BDE1-4ED5-A2FD-1447BE7F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A97D-F205-4688-9F9E-1AC148B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8028-5FF7-4079-A509-1AD3CE5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3D686-A998-4E5C-B7CF-B1650F49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1CCC-4448-497E-B1B9-AC169331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4F79-2C53-4ADB-B83C-487039D1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E463-E897-4009-8A8A-BD393053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BE88-F830-48AC-9A99-E559F986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E1C-03AF-4EFD-88B2-D82C6652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F4D2-46AC-4193-BA15-99EF24B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FA04B-8BAC-49C7-8511-46F1872A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6551-39AC-4AE3-BA68-6C273DC5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132C-E26A-4829-9093-10CEC69C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1B46B-C471-4787-B6D0-2CBBEECB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8D823-8B5D-45EE-BF21-9125AEE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E6AF2-698A-45AA-BBAE-C9EBFB9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0E4D9-8003-4C7B-90AE-93CBB1EE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537AF-257A-4EA8-8481-99833F19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7EB80-FDF2-4EA1-88A2-C9170BF0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4C4-6343-45A5-8D63-99D31AE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8320-2171-4701-BA66-2655F05E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7528-4548-44BE-AD1D-03A30126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2611-6B41-43EF-888A-69C22E1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B515F-0C56-4124-A60C-D617CD02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F86E8-F154-49E0-AC35-A10E14B9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24A44-5D98-4D51-B1A5-9C3AACB9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6BD11-8EEF-4F6F-B072-B2DB46C2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F0835-B26D-49CC-9BD1-17F53C57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F3049-D13E-4CBB-9E28-5FB71B9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F0340-FE70-472B-9213-A6F462C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22C-A504-41EE-B013-D45BA8C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C318E-44D7-49BC-B09C-46390690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C20B-8925-4228-991D-FC143C86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764AD-94B4-4F01-B886-DE99D536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81177-342F-4B77-8237-CD7ED12D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AB71-BB11-4C5C-A3CE-1383682E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FBF1F-A748-4D96-A717-EBAF0610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9DA68-44CF-469D-A260-661B947E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5D754-5E53-4321-B778-98B85339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831E9-B1E9-4853-BC41-2E6B2E52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768D-1742-4BA8-A06C-759849C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260-1055-40BF-B17F-2878BAC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C79C1-D455-46C5-970E-CF0B570F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55F2A-7115-49EB-A341-62578AF5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1A0FC-D3AA-4CEF-887C-56239B29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D369C-0945-49EC-B39B-AC6275DD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01678-0FFA-488B-8596-3CBFFA25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D4DB6-CFC6-4CA1-AB44-07E9250C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76C5B-2EE7-4204-8778-611BC797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45E38-6EB9-4B75-A06A-50ED8C21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1538A-AA4B-4D88-9CB4-CA10073D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A8F69-5617-4DBC-A65B-DF83F4D5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3E2-1201-4F8E-ADD0-D245C27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58411-B3AC-4148-8C09-9CB9FB73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4544F-4D12-494F-A58D-75CE8EB1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8C681-9CB5-4C44-8A7C-880A3338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23970-20E2-4FFF-8BAD-D41B9391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87218-920D-489A-ACEB-954A6F5F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4E427-9FCB-421B-AB4D-559CF3F9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6DD31-FB6A-43EF-AAC4-52AFDDE7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2F367-1C2E-4429-876F-1303864B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5E687-7ECD-4666-A084-09A27809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C464C-98D1-4373-99B7-A8FE72BC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E454-ACA8-44C3-AB1F-6226A048C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5BFF-B70C-4A0A-9E5C-94159212E1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8327-E01A-430F-A6CA-345BF75FCF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C254-0D70-4A8E-BC6C-2DCBA61E81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CFA-B39E-4374-9A95-7CF7F77D01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BC04-D495-4F0E-98FE-A1C4774497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C984-81A2-45F7-958A-F43118A0F5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460E-8D57-4098-A83F-02D5A6141A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ED5-93A9-423F-8DE5-4916395EA7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205B-E817-414B-B6AD-D11764C789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468C-A4B0-4E45-A331-B238678F8F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CF06-2357-4D06-A541-98D7B11F19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8A4D-88AF-465D-904D-FBC9461738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254D-9183-428D-814A-429D02D2C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CBF1-7337-4703-B3B4-08A5B7822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9572-5CD4-4402-890B-421698AAD8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A218-1CB3-45AD-A200-749DE0750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CA3-EBD7-4492-A7A8-076428F1DD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0819-77BC-4484-BB37-518154B0B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A7D-3A59-4F5A-ACC5-0ACD95238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515-C6CA-4C7D-BC86-D9F7F6880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5D02-813E-4431-A8D8-7F9784340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FD67-D6BA-451C-9089-1B607851B2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53BF-B4CC-44A2-BE4A-E6587D20A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B2F1-4A11-446F-B57D-720BB88026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2E0-DC8C-4E50-B655-8E8F958EE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0178-8EF8-4C99-8A68-FC682396BA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750A-D6F2-4467-9CBA-E69E326CC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D06F-BB92-464B-8164-D23EB6229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534E-6EAC-41C0-95A6-47439F8BA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DDED-84A2-4BBD-9132-2EDF3C1BF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0F65-F4BB-47AD-B65E-C86B92CBB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BF4A-9A46-4786-B557-219C51FB9A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0B05-8F3C-4759-BD53-D86EF7436F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4F3-58EA-4FDB-A703-F605297241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490C-1174-4B04-B39A-D6C2A1EFBA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869A-5F6C-499E-8247-279B30A35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81E-EC22-448D-833D-D5762AEBB7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91C-D266-4B17-B89A-265B517234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4129-7139-489C-AF2D-2E6E105283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B043-11F2-41B8-8A4E-7ACF1FDDA4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8A1B-22F0-4B03-A514-FE4B507D3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574B-6028-4101-BFC3-6ED4D0066F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5B9-3909-4379-8365-0644128E90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405-BA1C-4FAC-9980-1802DF0A1F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5BF2-AE06-4879-A50E-6A9747367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B8CC-03DC-4EB3-9441-3BE93E60D2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8423-E4F8-4B62-AAD3-51C6B3C552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5E49-138E-4529-B40E-4BB69D3DA3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F5C9-6F60-4F90-8350-0E5EB552A2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157480" y="3081240"/>
            <a:ext cx="48290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7987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48880" cy="5419800"/>
          </a:xfrm>
          <a:prstGeom prst="rect">
            <a:avLst/>
          </a:prstGeom>
          <a:ln w="0">
            <a:noFill/>
          </a:ln>
        </p:spPr>
      </p:pic>
      <p:sp>
        <p:nvSpPr>
          <p:cNvPr id="1450" name="矩形 79874"/>
          <p:cNvSpPr/>
          <p:nvPr/>
        </p:nvSpPr>
        <p:spPr>
          <a:xfrm>
            <a:off x="7885080" y="350028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78849" descr=""/>
          <p:cNvPicPr/>
          <p:nvPr/>
        </p:nvPicPr>
        <p:blipFill>
          <a:blip r:embed="rId1"/>
          <a:stretch/>
        </p:blipFill>
        <p:spPr>
          <a:xfrm>
            <a:off x="552600" y="1838160"/>
            <a:ext cx="8038800" cy="31816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78850"/>
          <p:cNvSpPr/>
          <p:nvPr/>
        </p:nvSpPr>
        <p:spPr>
          <a:xfrm>
            <a:off x="7835760" y="411336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04450" descr=""/>
          <p:cNvPicPr/>
          <p:nvPr/>
        </p:nvPicPr>
        <p:blipFill>
          <a:blip r:embed="rId1"/>
          <a:stretch/>
        </p:blipFill>
        <p:spPr>
          <a:xfrm>
            <a:off x="552600" y="2052720"/>
            <a:ext cx="8038800" cy="275256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04451"/>
          <p:cNvSpPr/>
          <p:nvPr/>
        </p:nvSpPr>
        <p:spPr>
          <a:xfrm>
            <a:off x="2903400" y="3841920"/>
            <a:ext cx="804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04452"/>
          <p:cNvSpPr/>
          <p:nvPr/>
        </p:nvSpPr>
        <p:spPr>
          <a:xfrm>
            <a:off x="2141640" y="4356000"/>
            <a:ext cx="804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03425" descr=""/>
          <p:cNvPicPr/>
          <p:nvPr/>
        </p:nvPicPr>
        <p:blipFill>
          <a:blip r:embed="rId1"/>
          <a:stretch/>
        </p:blipFill>
        <p:spPr>
          <a:xfrm>
            <a:off x="547560" y="1604880"/>
            <a:ext cx="8048880" cy="36482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03426"/>
          <p:cNvSpPr/>
          <p:nvPr/>
        </p:nvSpPr>
        <p:spPr>
          <a:xfrm>
            <a:off x="2881440" y="43624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03427"/>
          <p:cNvSpPr/>
          <p:nvPr/>
        </p:nvSpPr>
        <p:spPr>
          <a:xfrm>
            <a:off x="6615000" y="4362480"/>
            <a:ext cx="693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0240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0080" cy="586764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02402"/>
          <p:cNvSpPr/>
          <p:nvPr/>
        </p:nvSpPr>
        <p:spPr>
          <a:xfrm>
            <a:off x="2239920" y="2959200"/>
            <a:ext cx="892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02403"/>
          <p:cNvSpPr/>
          <p:nvPr/>
        </p:nvSpPr>
        <p:spPr>
          <a:xfrm>
            <a:off x="4113360" y="3416400"/>
            <a:ext cx="674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02404"/>
          <p:cNvSpPr/>
          <p:nvPr/>
        </p:nvSpPr>
        <p:spPr>
          <a:xfrm>
            <a:off x="3187800" y="3927600"/>
            <a:ext cx="80784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01377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039160" cy="27144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01378"/>
          <p:cNvSpPr/>
          <p:nvPr/>
        </p:nvSpPr>
        <p:spPr>
          <a:xfrm>
            <a:off x="4395960" y="28717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01379"/>
          <p:cNvSpPr/>
          <p:nvPr/>
        </p:nvSpPr>
        <p:spPr>
          <a:xfrm>
            <a:off x="5516640" y="33400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01380"/>
          <p:cNvSpPr/>
          <p:nvPr/>
        </p:nvSpPr>
        <p:spPr>
          <a:xfrm>
            <a:off x="1390680" y="4233960"/>
            <a:ext cx="12366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00353" descr=""/>
          <p:cNvPicPr/>
          <p:nvPr/>
        </p:nvPicPr>
        <p:blipFill>
          <a:blip r:embed="rId1"/>
          <a:stretch/>
        </p:blipFill>
        <p:spPr>
          <a:xfrm>
            <a:off x="566640" y="1414440"/>
            <a:ext cx="8010720" cy="40291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00354"/>
          <p:cNvSpPr/>
          <p:nvPr/>
        </p:nvSpPr>
        <p:spPr>
          <a:xfrm>
            <a:off x="2141640" y="3645000"/>
            <a:ext cx="77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00355"/>
          <p:cNvSpPr/>
          <p:nvPr/>
        </p:nvSpPr>
        <p:spPr>
          <a:xfrm>
            <a:off x="7334280" y="4548240"/>
            <a:ext cx="909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99329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20080" cy="5705640"/>
          </a:xfrm>
          <a:prstGeom prst="rect">
            <a:avLst/>
          </a:prstGeom>
          <a:ln w="0">
            <a:noFill/>
          </a:ln>
        </p:spPr>
      </p:pic>
      <p:sp>
        <p:nvSpPr>
          <p:cNvPr id="1471" name="矩形 99330"/>
          <p:cNvSpPr/>
          <p:nvPr/>
        </p:nvSpPr>
        <p:spPr>
          <a:xfrm>
            <a:off x="1116000" y="4508640"/>
            <a:ext cx="2117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图片 99332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4581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98305" descr=""/>
          <p:cNvPicPr/>
          <p:nvPr/>
        </p:nvPicPr>
        <p:blipFill>
          <a:blip r:embed="rId1"/>
          <a:stretch/>
        </p:blipFill>
        <p:spPr>
          <a:xfrm>
            <a:off x="557280" y="919080"/>
            <a:ext cx="8029440" cy="5019840"/>
          </a:xfrm>
          <a:prstGeom prst="rect">
            <a:avLst/>
          </a:prstGeom>
          <a:ln w="0">
            <a:noFill/>
          </a:ln>
        </p:spPr>
      </p:pic>
      <p:sp>
        <p:nvSpPr>
          <p:cNvPr id="1474" name="矩形 98306"/>
          <p:cNvSpPr/>
          <p:nvPr/>
        </p:nvSpPr>
        <p:spPr>
          <a:xfrm>
            <a:off x="1116000" y="2708280"/>
            <a:ext cx="21178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5" name="图片 98307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48765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7281" descr=""/>
          <p:cNvPicPr/>
          <p:nvPr/>
        </p:nvPicPr>
        <p:blipFill>
          <a:blip r:embed="rId1"/>
          <a:stretch/>
        </p:blipFill>
        <p:spPr>
          <a:xfrm>
            <a:off x="552600" y="838080"/>
            <a:ext cx="8038800" cy="51818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7282"/>
          <p:cNvSpPr/>
          <p:nvPr/>
        </p:nvSpPr>
        <p:spPr>
          <a:xfrm>
            <a:off x="4567320" y="5483160"/>
            <a:ext cx="941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6" descr=""/>
          <p:cNvPicPr/>
          <p:nvPr/>
        </p:nvPicPr>
        <p:blipFill>
          <a:blip r:embed="rId1"/>
          <a:stretch/>
        </p:blipFill>
        <p:spPr>
          <a:xfrm>
            <a:off x="538200" y="1847880"/>
            <a:ext cx="8067600" cy="316224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8"/>
          <p:cNvSpPr/>
          <p:nvPr/>
        </p:nvSpPr>
        <p:spPr>
          <a:xfrm>
            <a:off x="4427640" y="36450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6257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419960" cy="4743360"/>
          </a:xfrm>
          <a:prstGeom prst="rect">
            <a:avLst/>
          </a:prstGeom>
          <a:ln w="0">
            <a:noFill/>
          </a:ln>
        </p:spPr>
      </p:pic>
      <p:sp>
        <p:nvSpPr>
          <p:cNvPr id="1479" name="矩形 96258"/>
          <p:cNvSpPr/>
          <p:nvPr/>
        </p:nvSpPr>
        <p:spPr>
          <a:xfrm>
            <a:off x="3782880" y="2009880"/>
            <a:ext cx="941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6259"/>
          <p:cNvSpPr/>
          <p:nvPr/>
        </p:nvSpPr>
        <p:spPr>
          <a:xfrm>
            <a:off x="6951600" y="2543040"/>
            <a:ext cx="6447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6260"/>
          <p:cNvSpPr/>
          <p:nvPr/>
        </p:nvSpPr>
        <p:spPr>
          <a:xfrm>
            <a:off x="3924360" y="4664160"/>
            <a:ext cx="42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96261"/>
          <p:cNvSpPr/>
          <p:nvPr/>
        </p:nvSpPr>
        <p:spPr>
          <a:xfrm>
            <a:off x="1279440" y="5221440"/>
            <a:ext cx="1060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95233" descr=""/>
          <p:cNvPicPr/>
          <p:nvPr/>
        </p:nvPicPr>
        <p:blipFill>
          <a:blip r:embed="rId1"/>
          <a:stretch/>
        </p:blipFill>
        <p:spPr>
          <a:xfrm>
            <a:off x="571680" y="95256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94209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410240" cy="5219640"/>
          </a:xfrm>
          <a:prstGeom prst="rect">
            <a:avLst/>
          </a:prstGeom>
          <a:ln w="0">
            <a:noFill/>
          </a:ln>
        </p:spPr>
      </p:pic>
      <p:sp>
        <p:nvSpPr>
          <p:cNvPr id="1485" name="矩形 94210"/>
          <p:cNvSpPr/>
          <p:nvPr/>
        </p:nvSpPr>
        <p:spPr>
          <a:xfrm>
            <a:off x="2325600" y="1336680"/>
            <a:ext cx="941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94211"/>
          <p:cNvSpPr/>
          <p:nvPr/>
        </p:nvSpPr>
        <p:spPr>
          <a:xfrm>
            <a:off x="6526080" y="1346040"/>
            <a:ext cx="1214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4212"/>
          <p:cNvSpPr/>
          <p:nvPr/>
        </p:nvSpPr>
        <p:spPr>
          <a:xfrm>
            <a:off x="3108240" y="2924280"/>
            <a:ext cx="1214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94213"/>
          <p:cNvSpPr/>
          <p:nvPr/>
        </p:nvSpPr>
        <p:spPr>
          <a:xfrm>
            <a:off x="1979640" y="501336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4214"/>
          <p:cNvSpPr/>
          <p:nvPr/>
        </p:nvSpPr>
        <p:spPr>
          <a:xfrm>
            <a:off x="7191360" y="5057640"/>
            <a:ext cx="7621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93185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524720" cy="3190680"/>
          </a:xfrm>
          <a:prstGeom prst="rect">
            <a:avLst/>
          </a:prstGeom>
          <a:ln w="0">
            <a:noFill/>
          </a:ln>
        </p:spPr>
      </p:pic>
      <p:sp>
        <p:nvSpPr>
          <p:cNvPr id="1491" name="矩形 93186"/>
          <p:cNvSpPr/>
          <p:nvPr/>
        </p:nvSpPr>
        <p:spPr>
          <a:xfrm>
            <a:off x="7386480" y="3251160"/>
            <a:ext cx="9414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93187"/>
          <p:cNvSpPr/>
          <p:nvPr/>
        </p:nvSpPr>
        <p:spPr>
          <a:xfrm>
            <a:off x="1258920" y="3795840"/>
            <a:ext cx="7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93188"/>
          <p:cNvSpPr/>
          <p:nvPr/>
        </p:nvSpPr>
        <p:spPr>
          <a:xfrm>
            <a:off x="1628640" y="4329000"/>
            <a:ext cx="1143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42880" y="1852560"/>
            <a:ext cx="8058240" cy="315288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3"/>
          <p:cNvSpPr/>
          <p:nvPr/>
        </p:nvSpPr>
        <p:spPr>
          <a:xfrm>
            <a:off x="7834320" y="36561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552600" y="1576440"/>
            <a:ext cx="8038800" cy="3705120"/>
          </a:xfrm>
          <a:prstGeom prst="rect">
            <a:avLst/>
          </a:prstGeom>
          <a:ln w="0">
            <a:noFill/>
          </a:ln>
        </p:spPr>
      </p:pic>
      <p:sp>
        <p:nvSpPr>
          <p:cNvPr id="1438" name="矩形 86018"/>
          <p:cNvSpPr/>
          <p:nvPr/>
        </p:nvSpPr>
        <p:spPr>
          <a:xfrm>
            <a:off x="7813800" y="25131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84993" descr=""/>
          <p:cNvPicPr/>
          <p:nvPr/>
        </p:nvPicPr>
        <p:blipFill>
          <a:blip r:embed="rId1"/>
          <a:stretch/>
        </p:blipFill>
        <p:spPr>
          <a:xfrm>
            <a:off x="538200" y="1171440"/>
            <a:ext cx="8067600" cy="4515120"/>
          </a:xfrm>
          <a:prstGeom prst="rect">
            <a:avLst/>
          </a:prstGeom>
          <a:ln w="0">
            <a:noFill/>
          </a:ln>
        </p:spPr>
      </p:pic>
      <p:sp>
        <p:nvSpPr>
          <p:cNvPr id="1440" name="矩形 84994"/>
          <p:cNvSpPr/>
          <p:nvPr/>
        </p:nvSpPr>
        <p:spPr>
          <a:xfrm>
            <a:off x="4035600" y="25891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3969" descr=""/>
          <p:cNvPicPr/>
          <p:nvPr/>
        </p:nvPicPr>
        <p:blipFill>
          <a:blip r:embed="rId1"/>
          <a:stretch/>
        </p:blipFill>
        <p:spPr>
          <a:xfrm>
            <a:off x="547560" y="1519200"/>
            <a:ext cx="8048880" cy="38196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3970"/>
          <p:cNvSpPr/>
          <p:nvPr/>
        </p:nvSpPr>
        <p:spPr>
          <a:xfrm>
            <a:off x="7791480" y="28400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2945" descr=""/>
          <p:cNvPicPr/>
          <p:nvPr/>
        </p:nvPicPr>
        <p:blipFill>
          <a:blip r:embed="rId1"/>
          <a:stretch/>
        </p:blipFill>
        <p:spPr>
          <a:xfrm>
            <a:off x="757080" y="1847880"/>
            <a:ext cx="76298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1921" descr=""/>
          <p:cNvPicPr/>
          <p:nvPr/>
        </p:nvPicPr>
        <p:blipFill>
          <a:blip r:embed="rId1"/>
          <a:stretch/>
        </p:blipFill>
        <p:spPr>
          <a:xfrm>
            <a:off x="331920" y="1684440"/>
            <a:ext cx="8038800" cy="39060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81922" descr=""/>
          <p:cNvPicPr/>
          <p:nvPr/>
        </p:nvPicPr>
        <p:blipFill>
          <a:blip r:embed="rId2"/>
          <a:stretch/>
        </p:blipFill>
        <p:spPr>
          <a:xfrm>
            <a:off x="792000" y="2157480"/>
            <a:ext cx="7620120" cy="27144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1923"/>
          <p:cNvSpPr/>
          <p:nvPr/>
        </p:nvSpPr>
        <p:spPr>
          <a:xfrm>
            <a:off x="7562880" y="26226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0897" descr=""/>
          <p:cNvPicPr/>
          <p:nvPr/>
        </p:nvPicPr>
        <p:blipFill>
          <a:blip r:embed="rId1"/>
          <a:stretch/>
        </p:blipFill>
        <p:spPr>
          <a:xfrm>
            <a:off x="542880" y="1190520"/>
            <a:ext cx="8058240" cy="447696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0898"/>
          <p:cNvSpPr/>
          <p:nvPr/>
        </p:nvSpPr>
        <p:spPr>
          <a:xfrm>
            <a:off x="7823160" y="155592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2:03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